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067-B5A9-44A0-8048-B26D51EB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15B-230C-4AFB-9662-A378D18A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A9C-7C92-4190-87C8-68916324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568-ABD1-4ED1-B242-47F4EF72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CDE-54E9-4E66-BF9B-3CDE61DF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C9A4-4B4F-46B1-A517-BA193E0A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DBA8-B5EA-402F-9B01-B18DAAF9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3E5-EEA6-4FED-A9DC-25DACAA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C37-ED33-4B86-A75B-3D9E6822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CC9-B878-474A-8B58-D4E8B732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A8BE-3B9B-46A0-914B-644DCC1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FF1-5296-4A49-BE59-56774B1A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DEA5-26D8-4F7C-9E94-3539BA07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DDA2-41B9-433E-B8D3-27C71AD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1348-0319-4BC3-9DD8-B7A2CD27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3266-D602-4C96-B571-C1C8E14E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0757-6F42-4334-B890-D2CC00A4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F5B-F466-40A9-899D-60399642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0E1-2525-446A-90BE-187D96EF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153-D6F9-4F51-B324-AABC353E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AE2-D28E-4563-8C87-15494A48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000-7113-41EA-B6CE-DD5BA563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A3D-E823-45C2-983B-ED522AA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683-76E3-4A01-A648-9360A01C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D472-EAAD-4A70-B2B3-2028687723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437F-4690-4383-B9FC-6CC22CB9A8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Hamle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William Shakespe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between 1599-160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great trage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arded as the most famous of Shakespeare’s pla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y begins with changing of the guard and a ques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in Charac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ing Hamlet – DEAD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ing Claudius – King of Denma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mlet – son of the dead king, nephew of Claudi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ratio – Hamlet’s frie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en Gertrude – Hamlet’s moth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onius – Danish councilor to 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re Charac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ertes – son of Poloni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helia – daughter of Poloni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sencrantz and Guilden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tinbras – Prince of Nor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ing 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hakespeare’s take on the aristocrac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re does Catholicism show up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shown from father-son relationship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y is grounded in realism, but begins with supernaturalism. What do you make of th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20:56:11Z</dcterms:created>
  <dc:creator>jvanengen</dc:creator>
  <dc:description/>
  <dc:language>en-US</dc:language>
  <cp:lastModifiedBy>jvanengen</cp:lastModifiedBy>
  <dcterms:modified xsi:type="dcterms:W3CDTF">2009-12-29T21:42:45Z</dcterms:modified>
  <cp:revision>3</cp:revision>
  <dc:subject/>
  <dc:title>Hamlet</dc:title>
</cp:coreProperties>
</file>